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EB90-0C9D-4C1E-87B2-D18E4D970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B1BB-9F76-4708-B859-1F2BAFD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1F8B-FF18-41B3-B1AC-A384920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63EC-E7F4-494D-BA0C-4A18FF892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AFB21-8D78-4661-A064-CBB9E15BD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16F6A-E124-43B2-85E5-9780D3E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A358C-AE78-4D2B-AD7B-CF12D94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53E41-E753-4F0A-ABEF-9F7699DE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249FE-0B31-41CB-A25D-4F35AACE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8B1E1-3539-45D8-9FCC-CBA25212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17D20-F365-44BC-A231-1306D94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86E6-8CB0-4492-9FCF-C99071ED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3406-55BE-47BE-AE11-780ABC4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09CA1-B100-433D-92A0-669C14A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2A0AF-9A7B-4575-A810-054041C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905CC-0666-4F4E-982B-A9C180E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6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6900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3760" y="3954600"/>
            <a:ext cx="24134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0CF9E-3F7D-4C54-A482-5C95AE48B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DD37-FDCA-4671-BC2B-2192CBB8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34FE-F574-43B7-BF94-CC7C04F2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FF7E-A980-42A5-AA3E-61946A2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E908-2026-451C-B1BB-336620FB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78EB-88B5-4ECF-8505-EF7061E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460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243A-868D-4036-9636-874217DA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4600"/>
            <a:ext cx="7496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DCC2-CF35-4287-8BB5-783F4EC4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-24959815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340000">
            <a:off x="183960" y="1053720"/>
            <a:ext cx="1125360" cy="1101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4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12/06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FCF4C3-849B-4F6E-A65C-ED4D946E9007}" type="slidenum"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22320" y="1414440"/>
            <a:ext cx="209520" cy="209520"/>
          </a:xfrm>
          <a:prstGeom prst="ellipse">
            <a:avLst/>
          </a:prstGeom>
          <a:gradFill rotWithShape="0">
            <a:gsLst>
              <a:gs pos="0">
                <a:srgbClr val="daf5fe"/>
              </a:gs>
              <a:gs pos="100000">
                <a:srgbClr val="00aad4"/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157400" y="1344600"/>
            <a:ext cx="63360" cy="63360"/>
          </a:xfrm>
          <a:prstGeom prst="ellipse">
            <a:avLst/>
          </a:prstGeom>
          <a:noFill/>
          <a:ln w="12600">
            <a:solidFill>
              <a:srgbClr val="317f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8520" indent="-30852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-24959815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2080" cy="170208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340000">
            <a:off x="183960" y="1053720"/>
            <a:ext cx="1125360" cy="1101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18960" indent="-3189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12/06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99B530-1E9D-41AE-BA9C-DBC71C447FA5}" type="slidenum"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940360" y="1917720"/>
            <a:ext cx="2303640" cy="1079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3284640"/>
            <a:ext cx="216036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765000"/>
            <a:ext cx="2376360" cy="863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4653000"/>
            <a:ext cx="2232000" cy="18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ecture, discussions, exercices et vidé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989000"/>
            <a:ext cx="2303640" cy="100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sponsabilité, Ouv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213000"/>
            <a:ext cx="230364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1844640"/>
            <a:ext cx="273528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581360"/>
            <a:ext cx="237636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ersévé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653000"/>
            <a:ext cx="2232000" cy="1800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utils Multimé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3284640"/>
            <a:ext cx="266364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ai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836640"/>
            <a:ext cx="2592720" cy="719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ction volo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6516720" y="1484280"/>
            <a:ext cx="289440" cy="432720"/>
          </a:xfrm>
          <a:prstGeom prst="bentConnector3">
            <a:avLst>
              <a:gd name="adj1" fmla="val 49937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227640" y="1484280"/>
            <a:ext cx="158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7090920" y="2997360"/>
            <a:ext cx="2520" cy="28944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6661080" y="2925720"/>
            <a:ext cx="1511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n prat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V="1" rot="10800000">
            <a:off x="7127280" y="4292280"/>
            <a:ext cx="180000" cy="361080"/>
          </a:xfrm>
          <a:prstGeom prst="bentConnector3">
            <a:avLst>
              <a:gd name="adj1" fmla="val 49899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6732720" y="4292640"/>
            <a:ext cx="194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5292360" y="5084280"/>
            <a:ext cx="864360" cy="7380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rot="10800000">
            <a:off x="5363280" y="5083920"/>
            <a:ext cx="793080" cy="7236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92720" y="4653000"/>
            <a:ext cx="129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Faci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620640"/>
            <a:ext cx="863280" cy="360360"/>
          </a:xfrm>
          <a:custGeom>
            <a:avLst/>
            <a:gdLst>
              <a:gd name="textAreaLeft" fmla="*/ 115560 w 863280"/>
              <a:gd name="textAreaRight" fmla="*/ 747720 w 863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620640"/>
            <a:ext cx="1008000" cy="360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260280"/>
            <a:ext cx="251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uvoir et Voul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427280" y="1557000"/>
            <a:ext cx="1369080" cy="28800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643280" y="1484280"/>
            <a:ext cx="129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 flipV="1">
            <a:off x="4390920" y="2997000"/>
            <a:ext cx="37440" cy="288000"/>
          </a:xfrm>
          <a:prstGeom prst="bentConnector3">
            <a:avLst>
              <a:gd name="adj1" fmla="val 49514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492360" y="2925720"/>
            <a:ext cx="2087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Génè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V="1">
            <a:off x="4390560" y="4291920"/>
            <a:ext cx="2520" cy="36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348000" y="4292640"/>
            <a:ext cx="165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roc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6381720"/>
            <a:ext cx="259236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4000" y="1842840"/>
            <a:ext cx="144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42920" y="1842840"/>
            <a:ext cx="7452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844640"/>
            <a:ext cx="2520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484280"/>
            <a:ext cx="25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Qu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0"/>
            <a:ext cx="2122560" cy="639000"/>
          </a:xfrm>
          <a:prstGeom prst="rect">
            <a:avLst/>
          </a:prstGeom>
          <a:solidFill>
            <a:srgbClr val="84aa33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’univers Auto-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56360" y="1979640"/>
            <a:ext cx="2484360" cy="1079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ocabulaire d'actualité, compréhension éc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3672000"/>
            <a:ext cx="216072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0360" y="360360"/>
            <a:ext cx="2808360" cy="1268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uvoir mettre en place des processus qui me con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5400720"/>
            <a:ext cx="2232000" cy="1457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ecture, suivi de l'act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989000"/>
            <a:ext cx="2484360" cy="100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sponsabilité, Ouv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213000"/>
            <a:ext cx="230364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Habitudes,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0720" y="1844640"/>
            <a:ext cx="2735280" cy="1150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uriosité, envie de faire ce dont j'ai en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581360"/>
            <a:ext cx="237636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ersévérance, confiance en m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653000"/>
            <a:ext cx="2232000" cy="1800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Internet, ordinateur, li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0720" y="3284640"/>
            <a:ext cx="2663640" cy="1008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ai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836640"/>
            <a:ext cx="2592720" cy="719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ecture, suivi de l'act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6516720" y="1484280"/>
            <a:ext cx="289440" cy="432720"/>
          </a:xfrm>
          <a:prstGeom prst="bentConnector3">
            <a:avLst>
              <a:gd name="adj1" fmla="val 49937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6227640" y="1484280"/>
            <a:ext cx="158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7090920" y="2997360"/>
            <a:ext cx="2520" cy="28944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6588000" y="3060720"/>
            <a:ext cx="1511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n prat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0" idx="4"/>
            <a:endCxn id="145" idx="2"/>
          </p:cNvCxnSpPr>
          <p:nvPr/>
        </p:nvCxnSpPr>
        <p:spPr>
          <a:xfrm>
            <a:off x="7020000" y="4680000"/>
            <a:ext cx="613440" cy="721440"/>
          </a:xfrm>
          <a:prstGeom prst="bentConnector3">
            <a:avLst>
              <a:gd name="adj1" fmla="val 4997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6659640" y="4859280"/>
            <a:ext cx="194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endCxn id="132" idx="1"/>
          </p:cNvCxnSpPr>
          <p:nvPr/>
        </p:nvCxnSpPr>
        <p:spPr>
          <a:xfrm>
            <a:off x="5292720" y="5084280"/>
            <a:ext cx="1443600" cy="529200"/>
          </a:xfrm>
          <a:prstGeom prst="bentConnector3">
            <a:avLst>
              <a:gd name="adj1" fmla="val 49987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rot="10800000">
            <a:off x="5363280" y="5083920"/>
            <a:ext cx="793080" cy="7236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292720" y="4653000"/>
            <a:ext cx="129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Faci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620640"/>
            <a:ext cx="863280" cy="360360"/>
          </a:xfrm>
          <a:custGeom>
            <a:avLst/>
            <a:gdLst>
              <a:gd name="textAreaLeft" fmla="*/ 115560 w 863280"/>
              <a:gd name="textAreaRight" fmla="*/ 747720 w 863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620640"/>
            <a:ext cx="1008000" cy="360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25560">
            <a:solidFill>
              <a:srgbClr val="296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260280"/>
            <a:ext cx="251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uvoir et Voul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/>
          <p:nvPr/>
        </p:nvCxnSpPr>
        <p:spPr>
          <a:xfrm flipV="1">
            <a:off x="4427280" y="1557000"/>
            <a:ext cx="1369080" cy="28800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643280" y="1484280"/>
            <a:ext cx="129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>
            <a:off x="4390920" y="2997000"/>
            <a:ext cx="37440" cy="288000"/>
          </a:xfrm>
          <a:prstGeom prst="bentConnector3">
            <a:avLst>
              <a:gd name="adj1" fmla="val 49514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492360" y="2925720"/>
            <a:ext cx="2087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Génè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 flipV="1">
            <a:off x="4390560" y="4291920"/>
            <a:ext cx="2520" cy="36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round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3348000" y="4292640"/>
            <a:ext cx="165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roc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6381720"/>
            <a:ext cx="259236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24000" y="1842840"/>
            <a:ext cx="144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842920" y="1842840"/>
            <a:ext cx="74520" cy="4539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844640"/>
            <a:ext cx="2520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1484280"/>
            <a:ext cx="25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Qu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0"/>
            <a:ext cx="2122560" cy="639000"/>
          </a:xfrm>
          <a:prstGeom prst="rect">
            <a:avLst/>
          </a:prstGeom>
          <a:solidFill>
            <a:srgbClr val="84aa33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’univers Auto-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7440" y="333360"/>
            <a:ext cx="2436840" cy="2735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60028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987640" y="3213000"/>
            <a:ext cx="3021120" cy="324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916360" y="333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2360" y="3213000"/>
            <a:ext cx="2592360" cy="324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3280" y="3284640"/>
            <a:ext cx="28432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vice informatique</cp:lastModifiedBy>
  <dcterms:modified xsi:type="dcterms:W3CDTF">2012-06-12T10:38:26Z</dcterms:modified>
  <cp:revision>1</cp:revision>
  <dc:subject/>
  <dc:title/>
</cp:coreProperties>
</file>